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907588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0"/>
            <a:ext cx="6735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dt" idx="2"/>
          </p:nvPr>
        </p:nvSpPr>
        <p:spPr>
          <a:xfrm>
            <a:off x="381600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Img"/>
          </p:nvPr>
        </p:nvSpPr>
        <p:spPr>
          <a:xfrm>
            <a:off x="696960" y="738000"/>
            <a:ext cx="5346720" cy="3701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e3a6c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1e3a6c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3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3"/>
          </p:nvPr>
        </p:nvSpPr>
        <p:spPr>
          <a:xfrm>
            <a:off x="-360" y="937224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4"/>
          </p:nvPr>
        </p:nvSpPr>
        <p:spPr>
          <a:xfrm>
            <a:off x="3816000" y="937224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9B9F1AC9-60CA-46E8-929D-38CAAEE2108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3816000" y="937224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1F5D40E6-BCAB-4A96-BA74-22DE691DDA4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-360" y="937224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-3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81600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695160" y="739800"/>
            <a:ext cx="5345280" cy="37004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49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3816000" y="937224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67B9B989-45B2-4A98-BF46-51FCDCAC845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-360" y="937224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-3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81600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695160" y="739800"/>
            <a:ext cx="5345280" cy="37004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49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FDC148-AD4E-4F0A-966F-45046DD4C5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0520" y="929880"/>
            <a:ext cx="85755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e3a6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0520" y="1915920"/>
            <a:ext cx="8575560" cy="188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e3a6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50520" y="3983760"/>
            <a:ext cx="8575560" cy="188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e3a6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CD2D7A-25E5-4E8F-9896-8738FB8B57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0520" y="929880"/>
            <a:ext cx="85755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e3a6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0520" y="1915920"/>
            <a:ext cx="4184640" cy="188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e3a6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4680" y="1915920"/>
            <a:ext cx="4184640" cy="188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e3a6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50520" y="3983760"/>
            <a:ext cx="4184640" cy="188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e3a6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4680" y="3983760"/>
            <a:ext cx="4184640" cy="188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e3a6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B2D58D-8A1D-49DB-A4BD-121262F53A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50520" y="929880"/>
            <a:ext cx="85755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e3a6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50520" y="1915920"/>
            <a:ext cx="2761200" cy="188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e3a6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50320" y="1915920"/>
            <a:ext cx="2761200" cy="188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e3a6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49760" y="1915920"/>
            <a:ext cx="2761200" cy="188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e3a6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50520" y="3983760"/>
            <a:ext cx="2761200" cy="188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e3a6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50320" y="3983760"/>
            <a:ext cx="2761200" cy="188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e3a6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49760" y="3983760"/>
            <a:ext cx="2761200" cy="188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e3a6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5F761E-95BF-41BA-A9A8-31B4B30033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50520" y="929880"/>
            <a:ext cx="85755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e3a6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50520" y="1915920"/>
            <a:ext cx="8575560" cy="39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37a7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50520" y="929880"/>
            <a:ext cx="85755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e3a6c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50520" y="1915920"/>
            <a:ext cx="8575560" cy="39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e3a6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50520" y="929880"/>
            <a:ext cx="85755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e3a6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50520" y="1915920"/>
            <a:ext cx="4184640" cy="39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e3a6c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044680" y="1915920"/>
            <a:ext cx="4184640" cy="39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e3a6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0520" y="929880"/>
            <a:ext cx="85755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e3a6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650520" y="929880"/>
            <a:ext cx="857556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37a7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50520" y="929880"/>
            <a:ext cx="85755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e3a6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50520" y="1915920"/>
            <a:ext cx="4184640" cy="188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e3a6c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44680" y="1915920"/>
            <a:ext cx="4184640" cy="39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e3a6c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50520" y="3983760"/>
            <a:ext cx="4184640" cy="188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e3a6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50520" y="929880"/>
            <a:ext cx="85755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e3a6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50520" y="1915920"/>
            <a:ext cx="8575560" cy="39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37a7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41B1D0-A0FD-4D87-BFA5-19277D9014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50520" y="929880"/>
            <a:ext cx="85755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e3a6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50520" y="1915920"/>
            <a:ext cx="4184640" cy="39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e3a6c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44680" y="1915920"/>
            <a:ext cx="4184640" cy="188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e3a6c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044680" y="3983760"/>
            <a:ext cx="4184640" cy="188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e3a6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50520" y="929880"/>
            <a:ext cx="85755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e3a6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50520" y="1915920"/>
            <a:ext cx="4184640" cy="188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e3a6c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4680" y="1915920"/>
            <a:ext cx="4184640" cy="188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e3a6c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50520" y="3983760"/>
            <a:ext cx="8575560" cy="188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e3a6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50520" y="929880"/>
            <a:ext cx="85755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e3a6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50520" y="1915920"/>
            <a:ext cx="8575560" cy="188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e3a6c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50520" y="3983760"/>
            <a:ext cx="8575560" cy="188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e3a6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50520" y="929880"/>
            <a:ext cx="85755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e3a6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50520" y="1915920"/>
            <a:ext cx="4184640" cy="188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e3a6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4680" y="1915920"/>
            <a:ext cx="4184640" cy="188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e3a6c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50520" y="3983760"/>
            <a:ext cx="4184640" cy="188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e3a6c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5044680" y="3983760"/>
            <a:ext cx="4184640" cy="188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e3a6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50520" y="929880"/>
            <a:ext cx="85755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e3a6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50520" y="1915920"/>
            <a:ext cx="2761200" cy="188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e3a6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550320" y="1915920"/>
            <a:ext cx="2761200" cy="188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e3a6c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449760" y="1915920"/>
            <a:ext cx="2761200" cy="188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e3a6c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50520" y="3983760"/>
            <a:ext cx="2761200" cy="188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e3a6c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550320" y="3983760"/>
            <a:ext cx="2761200" cy="188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e3a6c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449760" y="3983760"/>
            <a:ext cx="2761200" cy="188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e3a6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0520" y="929880"/>
            <a:ext cx="85755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e3a6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50520" y="1915920"/>
            <a:ext cx="8575560" cy="39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e3a6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725A5F-C5F5-44E1-A81A-68BC328C95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0520" y="929880"/>
            <a:ext cx="85755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e3a6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50520" y="1915920"/>
            <a:ext cx="4184640" cy="39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e3a6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4680" y="1915920"/>
            <a:ext cx="4184640" cy="39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e3a6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2B18A5-95B0-4545-BBC5-4883DEFFED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0520" y="929880"/>
            <a:ext cx="85755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e3a6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7F16BB-AA5F-4610-9B4C-50CE560BB3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50520" y="929880"/>
            <a:ext cx="857556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37a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8A2626-7594-4046-BF27-650FD70748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0520" y="929880"/>
            <a:ext cx="85755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e3a6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50520" y="1915920"/>
            <a:ext cx="4184640" cy="188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e3a6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4680" y="1915920"/>
            <a:ext cx="4184640" cy="39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e3a6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50520" y="3983760"/>
            <a:ext cx="4184640" cy="188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e3a6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342F25-5CBF-455D-A4CE-EC3C17583E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50520" y="929880"/>
            <a:ext cx="85755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e3a6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50520" y="1915920"/>
            <a:ext cx="4184640" cy="39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e3a6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4680" y="1915920"/>
            <a:ext cx="4184640" cy="188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e3a6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4680" y="3983760"/>
            <a:ext cx="4184640" cy="188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e3a6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B963BB-4EBB-4872-B0EF-17E6925A88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50520" y="929880"/>
            <a:ext cx="85755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e3a6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50520" y="1915920"/>
            <a:ext cx="4184640" cy="188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e3a6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4680" y="1915920"/>
            <a:ext cx="4184640" cy="188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e3a6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50520" y="3983760"/>
            <a:ext cx="8575560" cy="188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e3a6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C2C224-7E0F-4693-820B-7A473240FF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19080"/>
            <a:ext cx="9909000" cy="68389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50520" y="929880"/>
            <a:ext cx="85755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e3a6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1e3a6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50520" y="1915920"/>
            <a:ext cx="8575560" cy="39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e3a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3a6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1e3a6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e3a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3a6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1e3a6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1e3a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3a6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1e3a6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737a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3a6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1e3a6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737a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3a6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1e3a6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3a6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1e3a6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3a6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1e3a6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171840" y="5869080"/>
            <a:ext cx="3041640" cy="43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ffffff"/>
                </a:solidFill>
                <a:latin typeface="Arial"/>
              </a:rPr>
              <a:t>©</a:t>
            </a:r>
            <a:r>
              <a:rPr b="0" lang="de-DE" sz="800" spc="-1" strike="noStrike">
                <a:solidFill>
                  <a:srgbClr val="ffffff"/>
                </a:solidFill>
                <a:latin typeface="Arial"/>
              </a:rPr>
              <a:t> via donau </a:t>
            </a:r>
            <a:r>
              <a:rPr b="1" lang="de-DE" sz="8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de-DE" sz="800" spc="-1" strike="noStrike">
                <a:solidFill>
                  <a:srgbClr val="ffffff"/>
                </a:solidFill>
                <a:latin typeface="Arial"/>
              </a:rPr>
              <a:t> </a:t>
            </a:r>
            <a:fld id="{A1E6F189-5548-4CF1-97A3-0C64F2E413E2}" type="slidenum">
              <a:rPr b="0" lang="en-GB" sz="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6186600" y="5859360"/>
            <a:ext cx="29955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88440" y="286920"/>
            <a:ext cx="9356760" cy="5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e3a6c"/>
                </a:solidFill>
                <a:latin typeface="Arial"/>
              </a:rPr>
              <a:t>Naturversuch Bad Deutsch-Altenburg</a:t>
            </a:r>
            <a:endParaRPr b="1" lang="en-US" sz="3000" spc="-1" strike="noStrike">
              <a:solidFill>
                <a:srgbClr val="1e3a6c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1582560"/>
            <a:ext cx="9907560" cy="28274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7723080" y="2679840"/>
            <a:ext cx="1563840" cy="117612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6308640" y="5800680"/>
            <a:ext cx="27338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342200" y="5745240"/>
            <a:ext cx="20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Quelle: via dona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8230A0-800B-4AA7-A2E7-3140F9FD2EE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8440" y="286920"/>
            <a:ext cx="9356760" cy="5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e3a6c"/>
                </a:solidFill>
                <a:latin typeface="Arial"/>
              </a:rPr>
              <a:t>Maßnahmen</a:t>
            </a:r>
            <a:endParaRPr b="1" lang="en-US" sz="3000" spc="-1" strike="noStrike">
              <a:solidFill>
                <a:srgbClr val="1e3a6c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247680" y="2162160"/>
            <a:ext cx="9410760" cy="3693960"/>
          </a:xfrm>
          <a:prstGeom prst="rect">
            <a:avLst/>
          </a:prstGeom>
          <a:ln w="0">
            <a:noFill/>
          </a:ln>
        </p:spPr>
      </p:pic>
      <p:grpSp>
        <p:nvGrpSpPr>
          <p:cNvPr id="91" name=""/>
          <p:cNvGrpSpPr/>
          <p:nvPr/>
        </p:nvGrpSpPr>
        <p:grpSpPr>
          <a:xfrm>
            <a:off x="7392960" y="866880"/>
            <a:ext cx="2259000" cy="1767240"/>
            <a:chOff x="7392960" y="866880"/>
            <a:chExt cx="2259000" cy="1767240"/>
          </a:xfrm>
        </p:grpSpPr>
        <p:grpSp>
          <p:nvGrpSpPr>
            <p:cNvPr id="92" name=""/>
            <p:cNvGrpSpPr/>
            <p:nvPr/>
          </p:nvGrpSpPr>
          <p:grpSpPr>
            <a:xfrm>
              <a:off x="7392960" y="866880"/>
              <a:ext cx="2259000" cy="1767240"/>
              <a:chOff x="7392960" y="866880"/>
              <a:chExt cx="2259000" cy="1767240"/>
            </a:xfrm>
          </p:grpSpPr>
          <p:pic>
            <p:nvPicPr>
              <p:cNvPr id="93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7392960" y="866880"/>
                <a:ext cx="2254320" cy="1708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4" name=""/>
              <p:cNvSpPr/>
              <p:nvPr/>
            </p:nvSpPr>
            <p:spPr>
              <a:xfrm>
                <a:off x="7392960" y="2128680"/>
                <a:ext cx="2259000" cy="505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AT" sz="900" spc="-1" strike="noStrike">
                    <a:solidFill>
                      <a:srgbClr val="000000"/>
                    </a:solidFill>
                    <a:latin typeface="Arial"/>
                  </a:rPr>
                  <a:t>Gewässervernetzung Johler Arm - Schaffung eines permanent durchströmten Nebenarms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5" name=""/>
            <p:cNvSpPr/>
            <p:nvPr/>
          </p:nvSpPr>
          <p:spPr>
            <a:xfrm>
              <a:off x="9433080" y="905040"/>
              <a:ext cx="16488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9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5019840" y="871560"/>
            <a:ext cx="2263680" cy="1764360"/>
            <a:chOff x="5019840" y="871560"/>
            <a:chExt cx="2263680" cy="1764360"/>
          </a:xfrm>
        </p:grpSpPr>
        <p:grpSp>
          <p:nvGrpSpPr>
            <p:cNvPr id="97" name=""/>
            <p:cNvGrpSpPr/>
            <p:nvPr/>
          </p:nvGrpSpPr>
          <p:grpSpPr>
            <a:xfrm>
              <a:off x="5019840" y="871560"/>
              <a:ext cx="2263680" cy="1764360"/>
              <a:chOff x="5019840" y="871560"/>
              <a:chExt cx="2263680" cy="1764360"/>
            </a:xfrm>
          </p:grpSpPr>
          <p:pic>
            <p:nvPicPr>
              <p:cNvPr id="98" name="" descr=""/>
              <p:cNvPicPr/>
              <p:nvPr/>
            </p:nvPicPr>
            <p:blipFill>
              <a:blip r:embed="rId3"/>
              <a:srcRect l="0" t="0" r="12503" b="0"/>
              <a:stretch/>
            </p:blipFill>
            <p:spPr>
              <a:xfrm>
                <a:off x="5023080" y="871560"/>
                <a:ext cx="2259000" cy="1714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" name=""/>
              <p:cNvSpPr/>
              <p:nvPr/>
            </p:nvSpPr>
            <p:spPr>
              <a:xfrm>
                <a:off x="5019840" y="2130480"/>
                <a:ext cx="2263680" cy="505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AT" sz="900" spc="-1" strike="noStrike">
                    <a:solidFill>
                      <a:srgbClr val="000000"/>
                    </a:solidFill>
                    <a:latin typeface="Arial"/>
                  </a:rPr>
                  <a:t>Uferrückbau</a:t>
                </a:r>
                <a:br>
                  <a:rPr sz="900"/>
                </a:br>
                <a:r>
                  <a:rPr b="1" lang="de-AT" sz="900" spc="-1" strike="noStrike">
                    <a:solidFill>
                      <a:srgbClr val="000000"/>
                    </a:solidFill>
                    <a:latin typeface="Arial"/>
                  </a:rPr>
                  <a:t>Abtrag der Steinsicherungen  </a:t>
                </a:r>
                <a:br>
                  <a:rPr sz="900"/>
                </a:br>
                <a:r>
                  <a:rPr b="1" lang="de-AT" sz="900" spc="-1" strike="noStrike">
                    <a:solidFill>
                      <a:srgbClr val="000000"/>
                    </a:solidFill>
                    <a:latin typeface="Arial"/>
                  </a:rPr>
                  <a:t>               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0" name=""/>
            <p:cNvSpPr/>
            <p:nvPr/>
          </p:nvSpPr>
          <p:spPr>
            <a:xfrm>
              <a:off x="7020000" y="912960"/>
              <a:ext cx="16524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9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649600" y="866880"/>
            <a:ext cx="2278080" cy="1769040"/>
            <a:chOff x="2649600" y="866880"/>
            <a:chExt cx="2278080" cy="1769040"/>
          </a:xfrm>
        </p:grpSpPr>
        <p:grpSp>
          <p:nvGrpSpPr>
            <p:cNvPr id="102" name=""/>
            <p:cNvGrpSpPr/>
            <p:nvPr/>
          </p:nvGrpSpPr>
          <p:grpSpPr>
            <a:xfrm>
              <a:off x="2649600" y="866880"/>
              <a:ext cx="2278080" cy="1769040"/>
              <a:chOff x="2649600" y="866880"/>
              <a:chExt cx="2278080" cy="1769040"/>
            </a:xfrm>
          </p:grpSpPr>
          <p:pic>
            <p:nvPicPr>
              <p:cNvPr id="103" name="" descr=""/>
              <p:cNvPicPr/>
              <p:nvPr/>
            </p:nvPicPr>
            <p:blipFill>
              <a:blip r:embed="rId4"/>
              <a:srcRect l="0" t="0" r="1076" b="0"/>
              <a:stretch/>
            </p:blipFill>
            <p:spPr>
              <a:xfrm>
                <a:off x="2660760" y="866880"/>
                <a:ext cx="2266920" cy="1717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4" name=""/>
              <p:cNvSpPr/>
              <p:nvPr/>
            </p:nvSpPr>
            <p:spPr>
              <a:xfrm>
                <a:off x="2649600" y="2130480"/>
                <a:ext cx="2278080" cy="505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AT" sz="900" spc="-1" strike="noStrike">
                    <a:solidFill>
                      <a:srgbClr val="000000"/>
                    </a:solidFill>
                    <a:latin typeface="Arial"/>
                  </a:rPr>
                  <a:t>Buhnenoptimierung – Neubau bzw. Umbau</a:t>
                </a:r>
                <a:br>
                  <a:rPr sz="900"/>
                </a:br>
                <a:r>
                  <a:rPr b="1" lang="de-AT" sz="900" spc="-1" strike="noStrike">
                    <a:solidFill>
                      <a:srgbClr val="000000"/>
                    </a:solidFill>
                    <a:latin typeface="Arial"/>
                  </a:rPr>
                  <a:t>Absenkung an der Buhnenwurzel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" name=""/>
            <p:cNvSpPr/>
            <p:nvPr/>
          </p:nvSpPr>
          <p:spPr>
            <a:xfrm>
              <a:off x="4681440" y="946080"/>
              <a:ext cx="165240" cy="152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9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264960" y="863640"/>
            <a:ext cx="2271960" cy="1772280"/>
            <a:chOff x="264960" y="863640"/>
            <a:chExt cx="2271960" cy="1772280"/>
          </a:xfrm>
        </p:grpSpPr>
        <p:grpSp>
          <p:nvGrpSpPr>
            <p:cNvPr id="107" name=""/>
            <p:cNvGrpSpPr/>
            <p:nvPr/>
          </p:nvGrpSpPr>
          <p:grpSpPr>
            <a:xfrm>
              <a:off x="264960" y="863640"/>
              <a:ext cx="2271960" cy="1772280"/>
              <a:chOff x="264960" y="863640"/>
              <a:chExt cx="2271960" cy="1772280"/>
            </a:xfrm>
          </p:grpSpPr>
          <p:pic>
            <p:nvPicPr>
              <p:cNvPr id="108" name="" descr=""/>
              <p:cNvPicPr/>
              <p:nvPr/>
            </p:nvPicPr>
            <p:blipFill>
              <a:blip r:embed="rId5">
                <a:lum bright="10000"/>
              </a:blip>
              <a:stretch/>
            </p:blipFill>
            <p:spPr>
              <a:xfrm>
                <a:off x="264960" y="863640"/>
                <a:ext cx="2271960" cy="1724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9" name=""/>
              <p:cNvSpPr/>
              <p:nvPr/>
            </p:nvSpPr>
            <p:spPr>
              <a:xfrm>
                <a:off x="268200" y="2130480"/>
                <a:ext cx="2268720" cy="505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AT" sz="900" spc="-1" strike="noStrike">
                    <a:solidFill>
                      <a:srgbClr val="000000"/>
                    </a:solidFill>
                    <a:latin typeface="Arial"/>
                  </a:rPr>
                  <a:t>Sohlanpassung u. Granulometrische Sohlverbesserung – Erprobung der Einbaumethode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" name=""/>
            <p:cNvSpPr/>
            <p:nvPr/>
          </p:nvSpPr>
          <p:spPr>
            <a:xfrm>
              <a:off x="2300400" y="901800"/>
              <a:ext cx="16488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9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2789280" y="2901960"/>
            <a:ext cx="164880" cy="152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189400" y="2968560"/>
            <a:ext cx="165240" cy="152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89120" y="4425840"/>
            <a:ext cx="164880" cy="152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221000" y="3311640"/>
            <a:ext cx="165240" cy="152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270400" y="3726000"/>
            <a:ext cx="165240" cy="152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718320" y="4154400"/>
            <a:ext cx="165240" cy="152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794120" y="2735280"/>
            <a:ext cx="165240" cy="152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230960" y="4629240"/>
            <a:ext cx="165240" cy="152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094520" y="4206960"/>
            <a:ext cx="165240" cy="152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6"/>
          <a:stretch/>
        </p:blipFill>
        <p:spPr>
          <a:xfrm>
            <a:off x="1852560" y="4195800"/>
            <a:ext cx="3824280" cy="175572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7415280" y="5996160"/>
            <a:ext cx="20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Quelle: via dona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C9E425-ACB3-4E1A-9184-3930680BCAB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2T11:52:15Z</dcterms:created>
  <dc:creator>aenspeck</dc:creator>
  <dc:description/>
  <dc:language>en-US</dc:language>
  <cp:lastModifiedBy>WWF</cp:lastModifiedBy>
  <dcterms:modified xsi:type="dcterms:W3CDTF">2011-07-26T13:37:34Z</dcterms:modified>
  <cp:revision>518</cp:revision>
  <dc:subject/>
  <dc:title>Folie 1</dc:title>
</cp:coreProperties>
</file>